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33D08-1DDE-407B-BFA3-25139B170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5DD48-38BF-4736-B05B-8E79ABB5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02B45-5618-4784-82A8-BC9F45990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44918-F16C-4AE0-B168-4C0A94656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4B23-CD6F-46ED-8AAF-3D7927A31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CEAE-0924-47FC-A876-099D4D50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8612-3B34-4F93-A982-D462231C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0C90-0D7B-4F22-BA61-893F8A86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EC12-9D25-4116-84D5-26D170F9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6DD7-CA16-46E4-9069-148AB29D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8E78-6D91-45A0-B0A6-ABA53835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F4A9F-8A9B-4C52-9804-B6FE1FAC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F8B8-AE66-428B-933D-A7BA7EAB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354E-B58D-40DE-9068-EFA417FE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54F8-EEA9-4CD4-89A3-C3561B7B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2FD6-B143-42A9-8D63-321EE9D7F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8157-2BF5-4FF0-B636-084157A68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6DE79-3CFA-49BC-BFA5-C086C06B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89277-F9FE-40EE-B568-687E4AA9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8657C-087D-4C68-926F-9753F001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C1453-67FD-4192-A18D-F50BAC60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235AC-BDB4-4BC2-9B16-3B203C2A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7525F-B43A-42E0-A4A9-8126557E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C947D-794C-4FA9-9EC5-830D362D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0ABF-2628-4C6E-9263-80704D5112CD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8348-0EF5-47A0-AD17-A8041276AEAC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00040"/>
            <a:ext cx="957744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ffffff"/>
                </a:solidFill>
                <a:latin typeface="Arial"/>
              </a:rPr>
              <a:t>278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bg-BG" sz="3000" spc="-1" strike="noStrike">
                <a:solidFill>
                  <a:srgbClr val="ffffff"/>
                </a:solidFill>
                <a:latin typeface="Arial"/>
              </a:rPr>
              <a:t>917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Дете съм бедно, малко аз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и сила няма в мен;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лишено съм от мощ и власт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да бъда аз спасен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627200"/>
            <a:ext cx="10082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Исусе, пълен си с любов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към малките деца!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Чрез Свойта свята, скъпа кръв очистваш им сърца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1379520"/>
            <a:ext cx="95774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Учи ме, скъпоцен мой Спас,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да върша всеки ден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Твоята воля и тогаз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ще бъда аз блажен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379520"/>
            <a:ext cx="95774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4. Но малко съм детенце аз,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не мога нищо, знам!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Очаквам всичко, мили Спас,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от Теб във Твоя храм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252360" y="1379520"/>
            <a:ext cx="95774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5. Вземи Ти моето сърце,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обични Боже мой,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за да Те гледам аз в лице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и да съм вечно Твой!</a:t>
            </a: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7-24T15:53:32Z</dcterms:modified>
  <cp:revision>213</cp:revision>
  <dc:subject/>
  <dc:title>Slide 1</dc:title>
</cp:coreProperties>
</file>